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333C-B67A-4D19-8CD8-BAC2B9F2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DC21-03F8-4A51-A2FE-9E5F9C19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FEC-D3C6-43B5-9E4A-7D948119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FB1-7991-4B01-90A7-F3BE5903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E4E-B469-4CF2-AAD8-562ADC68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82C-5CAE-4E53-82E5-E231A885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10A-AF53-4AFB-B550-E7CDEE83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3190-22DE-4954-A51E-636B3D9E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B7B-5D74-4E84-8379-04A830D3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337-716B-4CBC-90EA-56AB1E5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7B2C-A078-47AF-979B-C41C5B5C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B4B-95D3-4BA6-BD15-C84382E5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12BC-B934-4EBF-A7E0-C88A4F65B3D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önül, bir sırça saraydır.</a:t>
            </a:r>
            <a:br>
              <a:rPr sz="55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Fatih'i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İstanbul'u fethettiği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yaştası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ezer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ağdan bağa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çoban çeşmes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Nasıl da geçiverdi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koskoca bir yaz mevsim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sırlardır kır atımı suladım. </a:t>
            </a:r>
            <a:br>
              <a:rPr sz="55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İlkokulun en zor sınıfı, beşinci sınıftır.</a:t>
            </a:r>
            <a:br>
              <a:rPr sz="55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ncak öğretmenim çözer bu soruy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f1ad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olanın yurdun dört bir yanını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Adın yazılacak mücevher taşa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oksan yıldır çile çekmiş hep ninem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ostlarla yollar ayrıldı bir bir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Domates çorbasının tadı, nefisti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Ucuz mal tercih etme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iyelim en güzel giysiler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ümbeleği çala çala, yoruldu bilekle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üşe kalka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eldim ben bu yaşım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oğruyu, yanlış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ondan görmed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Doğa sevgisini aşılıyor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bu sesl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Eczaneden defne yaprağı al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rial"/>
              </a:rPr>
              <a:t>Garipleri giydir, ipek şal il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7:25:15Z</dcterms:modified>
  <cp:revision>89</cp:revision>
  <dc:subject/>
  <dc:title>KONU 1</dc:title>
</cp:coreProperties>
</file>